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9161-1FF3-4F5E-A40C-D95C393183A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19EE-729E-4847-8EA1-FCE97781AB2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93CA-31A9-4629-8E2F-58279109189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D345-EDEA-4D29-BCC2-670C47BA7D1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E0A5-873A-48D4-8AFF-5434161496A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2E39-C085-4FAD-823B-AF7F468E19B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26D3-FE28-4031-82FB-9016A4C9E7E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46EC-D1C1-4FF3-B1A2-87255EBF265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6C63-3D27-4C13-B007-0424870CA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BB78-433E-4FF6-A888-6CFC3D24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EE03-4214-408D-9B5C-D0A9152FB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B44C-4048-45B0-9486-253D032E7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A90F-C783-49BE-AEB8-826EA9747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034A-6AC8-4CDD-A4F0-6AF282EF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82F6-8541-4DFF-9F34-08FCAD06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67F7-51E4-4A80-880E-B2F999DB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A0D4-C838-4A2F-B92F-3D4014AA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591C-804F-4185-BCD7-3A2CE127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5E04-C823-4544-BE9D-4A8A4154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58B4-FD26-44A8-84F3-03998C3D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97BE-6C6B-4884-9B6A-F5024935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1B4B-60B1-48E9-982F-B0CD51CC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9FC0-665D-4757-AEB5-5CC05870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10A4-E68F-49CE-83B7-10E8800BB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35B8-DB81-41DC-917D-21BAE3FDD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5E7A-4CAE-470E-9E54-80FFBA99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7668-CA95-4983-AB72-35AE924B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D2D0-B801-4FE7-8400-BA36862D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E21E-73FF-4B09-8A18-5C5130B5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6FC3-5DDB-4D9B-B460-4C964668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7EE2-2B1F-4A76-8881-15F504E4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BEE2-57B4-46C7-A822-189629AC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7640"/>
              <a:chOff x="4104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8320" y="-4680"/>
                <a:ext cx="982800" cy="68342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5080" y="1695240"/>
                <a:ext cx="98280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8320" y="1283760"/>
                <a:ext cx="982800" cy="5029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8320" y="147600"/>
                <a:ext cx="98280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5080" y="987840"/>
                <a:ext cx="982800" cy="34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6880" y="679680"/>
                <a:ext cx="982800" cy="4327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7960" y="372960"/>
                <a:ext cx="995400" cy="3744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3560" y="3935160"/>
                <a:ext cx="982440" cy="4993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7160" y="3535200"/>
                <a:ext cx="982800" cy="50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7160" y="2396160"/>
                <a:ext cx="982800" cy="3045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7160" y="3230640"/>
                <a:ext cx="982800" cy="3474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7160" y="2930040"/>
                <a:ext cx="982800" cy="4280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6800" y="2617920"/>
                <a:ext cx="995400" cy="37548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240" y="4967640"/>
                <a:ext cx="982440" cy="50040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1480" y="4556160"/>
                <a:ext cx="982440" cy="50292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3560" y="5663520"/>
                <a:ext cx="982440" cy="30348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440" y="6187680"/>
                <a:ext cx="345960" cy="984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0680" y="6197760"/>
                <a:ext cx="982440" cy="429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88520"/>
                <a:ext cx="995400" cy="375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37F0-60E5-4E9C-B8B1-7F1FF13856E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4120"/>
              <a:chOff x="-3240" y="2479680"/>
              <a:chExt cx="9146880" cy="10141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120" y="2783880"/>
                <a:ext cx="990720" cy="4042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2120"/>
                <a:ext cx="1003320" cy="4996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5240"/>
                <a:ext cx="990360" cy="4046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6600" y="2775600"/>
                <a:ext cx="990360" cy="40428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244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B6A3-BD3F-49E6-982F-DBADADD03D9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ededuca.wikispaces.com/" TargetMode="External"/><Relationship Id="rId2" Type="http://schemas.openxmlformats.org/officeDocument/2006/relationships/hyperlink" Target="http://educacionplasticayvisual.wikispaces.com/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.juntadeandalucia.es/averroes/cppfelipe" TargetMode="External"/><Relationship Id="rId2" Type="http://schemas.openxmlformats.org/officeDocument/2006/relationships/hyperlink" Target="http://mutrayil.wikispaces.com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esumen.wikispaces.com/sextob0708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s.wikipedia.org/wiki/Lengua_hawaiana" TargetMode="External"/><Relationship Id="rId2" Type="http://schemas.openxmlformats.org/officeDocument/2006/relationships/hyperlink" Target="http://es.wikipedia.org/wiki/Sitio_web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2517120" y="2362320"/>
            <a:ext cx="4153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Wik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Aplicación didác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Usos educativ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9976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de el punto de vista del doc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opilar contenidos teóricos de la materia para consulta por parte de los alumnos/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opilar actividades de a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bajar en un proyecto común con otros doc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cer una antología de textos de le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cer un listado de recursos on-line (para el alumnado o para otros docen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ahoma"/>
              </a:rPr>
              <a:t>Usos educa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914400" y="142884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esde el punto de vista del alumna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alizar trabajos de manera colaborativa sobre cualquier tipo textu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esentar el contenido de un trabajo de investigación (contenido fi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labor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glos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tolog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pu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7128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66cc"/>
                </a:solidFill>
                <a:latin typeface="Arial"/>
              </a:rPr>
              <a:t>MODELOS DIDÁCTICOS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793440"/>
            <a:ext cx="8077320" cy="59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66cc"/>
                </a:solidFill>
                <a:latin typeface="Arial"/>
              </a:rPr>
              <a:t>Blog diario de clase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da día un grupo resume lo que se ha hecho en clase. El profesor lo revisa y valora. Útil para alumnos que no han asistido a clase, repasar temas, mostrar a las familias lo que se hace. Incluy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mejores trabajos de la cl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ctividades del profesor que los alumnos resolver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puestas para comentar o debatir un artículo, una noticia, una foto, un víde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solver una adivinanza o problema de múltiples solu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da día un alumno escribe un fragmento más de una novela o cu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66cc"/>
                </a:solidFill>
                <a:latin typeface="Arial"/>
              </a:rPr>
              <a:t>Trabajos colaborativos con wik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66cc"/>
                </a:solidFill>
                <a:latin typeface="Arial"/>
              </a:rPr>
              <a:t>Wiki del periódico escolar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(los lectores podrán dejar aportacio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66cc"/>
                </a:solidFill>
                <a:latin typeface="Arial"/>
              </a:rPr>
              <a:t>Web del centro docente,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con enlace a los wikis de profesores y a los wikis diario de clase (las familias pueden dejar comentari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0" y="0"/>
            <a:ext cx="14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PERE MARQUES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73240" y="1981080"/>
            <a:ext cx="7772400" cy="30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positorio de Recursos Educ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rededuca.wikispac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tio web personal del profe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http://educacionplasticayvisual.wikispaces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utrayil. Una recreación de Motril en la Edad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te espacio se dedica a documentar las investigaciones que el alumnado de 4º A y 4º B del </a:t>
            </a:r>
            <a:r>
              <a:rPr b="0" lang="es-ES" sz="16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CEIP Príncipe Felipe de Motril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realiza para intentar conocer cómo era la vida en Mutrayil, Motril, en la época islámica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http://mutrayil.wikispaces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resumen.wikispaces.com/sextob07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tividades en torno a libros en donde todos los alumnos colabo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Pequeños trabajos de investigación </a:t>
            </a:r>
            <a:r>
              <a:rPr b="0" lang="es-ES" sz="1600" spc="-1" strike="noStrike">
                <a:solidFill>
                  <a:srgbClr val="0000ff"/>
                </a:solidFill>
                <a:latin typeface="Arial"/>
                <a:ea typeface="Arial"/>
              </a:rPr>
              <a:t>http://socionatural.wikispaces.com/Los+animale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Poema colaborativo en wiki </a:t>
            </a:r>
            <a:r>
              <a:rPr b="0" lang="es-ES" sz="1600" spc="-1" strike="noStrike">
                <a:solidFill>
                  <a:srgbClr val="0000ff"/>
                </a:solidFill>
                <a:latin typeface="Arial"/>
                <a:ea typeface="Arial"/>
              </a:rPr>
              <a:t>http://poemas.wikispaces.com/Deseamos+y+ofrece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Narraciones colaborativas </a:t>
            </a:r>
            <a:r>
              <a:rPr b="0" lang="es-ES" sz="1600" spc="-1" strike="noStrike">
                <a:solidFill>
                  <a:srgbClr val="0000ff"/>
                </a:solidFill>
                <a:latin typeface="Arial"/>
                <a:ea typeface="Arial"/>
              </a:rPr>
              <a:t>http://narradores.wikispaces.com/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505440" y="1523880"/>
            <a:ext cx="81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ttp://textoscolaborativos.wikispaces.com/Wikis+en+Lengua+y+Lit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914400" y="2590920"/>
            <a:ext cx="4572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irigido al profesorado de Lengua Castellana y Literat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ncebido como una fuente de recursos para el trabajo sobre la mate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173240" y="2957400"/>
            <a:ext cx="7772400" cy="31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Wiki que refleja un trabajo colaborativo realizado por alumnos y alum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struyeron una antología de poemas de la Generación del 2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btuvo un premio el año pas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143000" y="137160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ttp://antologiapoetica.wetpaint.com/?t=an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9907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un wiki que está pensado para recoger producciones orales de los alumnos y alum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o resultado de una secuencia didáctica los alumnos graban textos de 100 palabras y proponen actividades a sus compañe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alumnos desarrollan la competencia en comunicación lingüística y dig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001880" y="1371600"/>
            <a:ext cx="504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ttp://tienesunminuto.wetpaint.com/?t=an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Web 2.0 : La nueva interne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RACTIVIDAD: Internet abandona su marcada unidireccionalidad y se orientan más a facilitar la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máxima interacción entre los usuario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 Pueden </a:t>
            </a:r>
            <a:r>
              <a:rPr b="1" i="1" lang="es-ES" sz="2000" spc="-1" strike="noStrike">
                <a:solidFill>
                  <a:srgbClr val="3366cc"/>
                </a:solidFill>
                <a:latin typeface="Arial"/>
              </a:rPr>
              <a:t>expresarse y opinar, buscar y recibir información de interés, colaborar y crear conocimiento, comparti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ACILIDAD PARA INTERVENIR: La plataforma de trabajo es la propia página web (no es necesario tener instalado un software cliente en el ordenado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s de 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143000" y="1676520"/>
            <a:ext cx="7315200" cy="45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ttp://poemasantologia.wikispaces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s un wiki que recoge una antología de poemas elaborada a partir de una selección de poemas proporcionada por el profes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os alumnos los han organizado por temas y los han ilustrado con imáge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ambién han añadido vínculos para buscar información sobre sus aut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143000" y="121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incular, no deben olvidar citar siempre las fu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spetar y así ser respe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cribir con legibilidad y corr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rear, adaptar, reutilizar los contenidos disponibles en la we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fender el conocimiento li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antener espíritu crí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HEMOS DE LOGRAR QUE</a:t>
            </a:r>
            <a:br>
              <a:rPr sz="3200"/>
            </a:b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los alumnos aprendan a...</a:t>
            </a: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Aplicaciones web 2.0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9720" y="1447560"/>
            <a:ext cx="794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Para expresarse/crear y publicar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blog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wiki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Para publicar y buscar información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podcast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YouTub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Flickr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SlideShare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Para acceder a información de interé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RS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XML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Blogline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GoogleReader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buscadores especializado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Redes sociale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: Ning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Second Lif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</a:rPr>
              <a:t>Twitter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Otra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: calendarios, geolocalización, libros virtuales compartidos, noticias, ofimática on-line, plataformas de teleformación, pizarras digitales colaborativas on-line, portal personalizado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MPLICACIONES EDUCATIVAS DE LA WEB 2.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9284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ermite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fácilmente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s-ES" sz="1400" spc="-1" strike="noStrike">
                <a:solidFill>
                  <a:srgbClr val="ff0000"/>
                </a:solidFill>
                <a:latin typeface="Arial"/>
              </a:rPr>
              <a:t>crear conocimiento,   buscar información ,   compartir e interactuar on-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uede orientarse al 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trabajo individual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y también al 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trabajo colabor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umenta la motivación del alumnado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r utilizar medios que les atraen y les resultan atrac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r ver sus aportaciones publicadas y visibles a nivel mund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uede servir como mecanismo de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municación con las familias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genda, diario, publicación de trabajos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ermite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laborar materiale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(solo o en grupo), compartirlos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y someternos a comentario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de los lecto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frece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pacios on-line para la publicación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de conteni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sibilita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nuevas actividades de aprendizaje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q, cazas de tesoros, adm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sibilita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nuevas formas de  evaluación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valuación compart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ejora competencias digitale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(buscar, procesar, comunic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Wik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3366"/>
                </a:solidFill>
                <a:latin typeface="Tahoma"/>
              </a:rPr>
              <a:t>Un wiki (o una wiki) (del </a:t>
            </a:r>
            <a:r>
              <a:rPr b="0" lang="es-ES" sz="3200" spc="-1" strike="noStrike" u="sng">
                <a:solidFill>
                  <a:srgbClr val="99ccff"/>
                </a:solidFill>
                <a:uFillTx/>
                <a:latin typeface="Tahoma"/>
                <a:hlinkClick r:id="rId1"/>
              </a:rPr>
              <a:t>hawaiano</a:t>
            </a:r>
            <a:r>
              <a:rPr b="1" i="1" lang="es-ES" sz="3200" spc="-1" strike="noStrike">
                <a:solidFill>
                  <a:srgbClr val="003366"/>
                </a:solidFill>
                <a:latin typeface="Tahoma"/>
              </a:rPr>
              <a:t> wiki wiki, «rápido») es un </a:t>
            </a:r>
            <a:r>
              <a:rPr b="0" lang="es-ES" sz="3200" spc="-1" strike="noStrike" u="sng">
                <a:solidFill>
                  <a:srgbClr val="99ccff"/>
                </a:solidFill>
                <a:uFillTx/>
                <a:latin typeface="Tahoma"/>
                <a:hlinkClick r:id="rId2"/>
              </a:rPr>
              <a:t>sitio web</a:t>
            </a:r>
            <a:r>
              <a:rPr b="1" i="1" lang="es-ES" sz="3200" spc="-1" strike="noStrike">
                <a:solidFill>
                  <a:srgbClr val="003366"/>
                </a:solidFill>
                <a:latin typeface="Tahoma"/>
              </a:rPr>
              <a:t> colaborativo que puede ser editado  </a:t>
            </a:r>
            <a:r>
              <a:rPr b="1" i="1" lang="es-ES" sz="3200" spc="-1" strike="noStrike" u="sng">
                <a:solidFill>
                  <a:srgbClr val="003366"/>
                </a:solidFill>
                <a:uFillTx/>
                <a:latin typeface="Tahoma"/>
              </a:rPr>
              <a:t>fácilmente</a:t>
            </a:r>
            <a:r>
              <a:rPr b="1" i="1" lang="es-ES" sz="3200" spc="-1" strike="noStrike">
                <a:solidFill>
                  <a:srgbClr val="003366"/>
                </a:solidFill>
                <a:latin typeface="Tahoma"/>
              </a:rPr>
              <a:t> por varios usu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Diferencias entre un blog y un wiki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429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lo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rganizado por entr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rácter más está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rganización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cron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4876920" y="1752480"/>
            <a:ext cx="3429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Wik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rganizado por pág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rácter más dinámico, particip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rganización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ahoma"/>
              </a:rPr>
              <a:t>in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Ventajas educativ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99720" y="1000080"/>
            <a:ext cx="79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tan fácil de usar que hace que el alumno se centre en el contenido y no en la tecnolo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bre nuevos espacios de comunicación entre profesores, alumnos, familia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umenta las capacidades sociales y de colaboración hum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omenta el aprendizaje constructiv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un buen método para la realización de trabajos de creación, indagación y desarrollo de la capacidad de comunic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Ventajas educativ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00080" y="1981080"/>
            <a:ext cx="814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una forma de romper los muros del aula. Lo que se hace en clase se continúa trabajando desde casa o desde otros espac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ublicar, saberse leíd@, comentad@ y observad@ resulta estimul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divert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Usos educativ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068480" y="1428840"/>
            <a:ext cx="776916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1:36:52Z</dcterms:created>
  <dc:creator>cpr</dc:creator>
  <dc:description/>
  <dc:language>en-US</dc:language>
  <cp:lastModifiedBy>cpr</cp:lastModifiedBy>
  <dcterms:modified xsi:type="dcterms:W3CDTF">2009-11-19T12:25:14Z</dcterms:modified>
  <cp:revision>15</cp:revision>
  <dc:subject/>
  <dc:title>Presentación de PowerPoint</dc:title>
</cp:coreProperties>
</file>